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14.png" ContentType="image/png"/>
  <Override PartName="/ppt/media/image28.png" ContentType="image/png"/>
  <Override PartName="/ppt/media/image30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8.jpeg" ContentType="image/jpe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2C3F-0A3E-4307-A90D-AD906C82F7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E9B-112B-4538-94A2-F6EE70E4B6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6D1-9685-4E93-87D7-938E40BE1D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90DC-5132-41A8-A578-51E5B3FF44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2F1-97C4-42DA-BC92-06BE6EDD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CAB-ADD1-45BD-B5EF-A5A9CB57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C81-DC3D-4E4C-B918-CA04A290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73C-1872-4465-8FF5-3963FD67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3EF-2C1B-4965-81F6-7BF2D24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4DF-7D84-4F0F-B81A-7E905DD2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160-CB63-4DF5-9942-95772955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CBD-5495-4756-AA7C-224652D9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24E-C40B-4D2B-BB5E-15A08678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537-6177-477F-B22F-68F885CD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F18-50C2-4AF8-A5B6-5EE81828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86B-733F-4634-95C4-AFBFDD1D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5DDF-F127-4663-BACB-7B5903C28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10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54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kogolika.com/wp-content/uploads/2012/04/%D0%93%D0%943.jpg"/>
          <p:cNvPicPr/>
          <p:nvPr/>
        </p:nvPicPr>
        <p:blipFill>
          <a:blip r:embed="rId2"/>
          <a:srcRect l="0" t="13472" r="0" b="13677"/>
          <a:stretch/>
        </p:blipFill>
        <p:spPr>
          <a:xfrm>
            <a:off x="4859280" y="122400"/>
            <a:ext cx="3097440" cy="1879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9"/>
          <p:cNvSpPr/>
          <p:nvPr/>
        </p:nvSpPr>
        <p:spPr>
          <a:xfrm>
            <a:off x="324000" y="260280"/>
            <a:ext cx="4319280" cy="3294000"/>
          </a:xfrm>
          <a:prstGeom prst="rect">
            <a:avLst/>
          </a:prstGeom>
          <a:solidFill>
            <a:srgbClr val="99cc00"/>
          </a:solidFill>
          <a:ln w="1908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ламентские слуш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итета Государственной Ду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аграрным вопро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аконодательное обеспечение эффективного использования земель сельскохозяйственного назнач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а 29 ноября 201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9"/>
          <p:cNvSpPr/>
          <p:nvPr/>
        </p:nvSpPr>
        <p:spPr>
          <a:xfrm>
            <a:off x="5003640" y="4005360"/>
            <a:ext cx="3681720" cy="253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ладими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дседатель Комит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осударственной Ду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аграрным вопрос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0484e1dac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631280" y="0"/>
            <a:ext cx="1512720" cy="9619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1311120" y="0"/>
            <a:ext cx="7056720" cy="936720"/>
          </a:xfrm>
          <a:prstGeom prst="rect">
            <a:avLst/>
          </a:prstGeom>
          <a:noFill/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04a7b"/>
                </a:solidFill>
                <a:latin typeface="Segoe UI Light"/>
              </a:rPr>
              <a:t>ЗАНЯТОСТЬ И ПОДГОТОВКА КАДРОВ В АП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4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458640" y="1197000"/>
            <a:ext cx="3969000" cy="2130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4716360" y="1197000"/>
            <a:ext cx="3969000" cy="2130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463680" y="3327480"/>
            <a:ext cx="3963960" cy="21304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"/>
          <p:cNvPicPr/>
          <p:nvPr/>
        </p:nvPicPr>
        <p:blipFill>
          <a:blip r:embed="rId6">
            <a:alphaModFix amt="50000"/>
          </a:blip>
          <a:stretch/>
        </p:blipFill>
        <p:spPr>
          <a:xfrm>
            <a:off x="4721400" y="3327480"/>
            <a:ext cx="3963960" cy="21304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4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738360" y="5397480"/>
            <a:ext cx="7721280" cy="141624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11"/>
          <p:cNvGrpSpPr/>
          <p:nvPr/>
        </p:nvGrpSpPr>
        <p:grpSpPr>
          <a:xfrm>
            <a:off x="0" y="0"/>
            <a:ext cx="1042920" cy="1079640"/>
            <a:chOff x="0" y="0"/>
            <a:chExt cx="1042920" cy="1079640"/>
          </a:xfrm>
        </p:grpSpPr>
        <p:sp>
          <p:nvSpPr>
            <p:cNvPr id="177" name="Прямоугольник 36"/>
            <p:cNvSpPr/>
            <p:nvPr/>
          </p:nvSpPr>
          <p:spPr>
            <a:xfrm>
              <a:off x="0" y="0"/>
              <a:ext cx="1042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2" descr="http://kogolika.com/wp-content/uploads/2012/04/%D0%93%D0%943.jpg"/>
            <p:cNvPicPr/>
            <p:nvPr/>
          </p:nvPicPr>
          <p:blipFill>
            <a:blip r:embed="rId8"/>
            <a:srcRect l="12385" t="13493" r="12601" b="13656"/>
            <a:stretch/>
          </p:blipFill>
          <p:spPr>
            <a:xfrm>
              <a:off x="20520" y="128520"/>
              <a:ext cx="100188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0" descr="10484e1da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7418520" y="0"/>
            <a:ext cx="1725480" cy="981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3"/>
          <p:cNvSpPr/>
          <p:nvPr/>
        </p:nvSpPr>
        <p:spPr>
          <a:xfrm>
            <a:off x="1722600" y="115920"/>
            <a:ext cx="7313400" cy="936720"/>
          </a:xfrm>
          <a:prstGeom prst="rect">
            <a:avLst/>
          </a:prstGeom>
          <a:noFill/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1859c"/>
                </a:solidFill>
                <a:latin typeface="Segoe UI Light"/>
              </a:rPr>
              <a:t>НАУЧНОЕ ОБЕСПЕЧЕНИЕ В АП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5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54160" y="1138320"/>
            <a:ext cx="4114800" cy="16621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6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4778280" y="1138320"/>
            <a:ext cx="4114800" cy="16621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7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216000" y="3062160"/>
            <a:ext cx="4114800" cy="16621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9" descr=""/>
          <p:cNvPicPr/>
          <p:nvPr/>
        </p:nvPicPr>
        <p:blipFill>
          <a:blip r:embed="rId6">
            <a:alphaModFix amt="50000"/>
          </a:blip>
          <a:stretch/>
        </p:blipFill>
        <p:spPr>
          <a:xfrm>
            <a:off x="4773600" y="3062160"/>
            <a:ext cx="4114800" cy="16621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1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216000" y="5005440"/>
            <a:ext cx="4114800" cy="16635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3" descr=""/>
          <p:cNvPicPr/>
          <p:nvPr/>
        </p:nvPicPr>
        <p:blipFill>
          <a:blip r:embed="rId8">
            <a:alphaModFix amt="50000"/>
          </a:blip>
          <a:stretch/>
        </p:blipFill>
        <p:spPr>
          <a:xfrm>
            <a:off x="4773600" y="5005440"/>
            <a:ext cx="4114800" cy="166356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1"/>
          <p:cNvGrpSpPr/>
          <p:nvPr/>
        </p:nvGrpSpPr>
        <p:grpSpPr>
          <a:xfrm>
            <a:off x="0" y="0"/>
            <a:ext cx="1186920" cy="1079640"/>
            <a:chOff x="0" y="0"/>
            <a:chExt cx="1186920" cy="1079640"/>
          </a:xfrm>
        </p:grpSpPr>
        <p:sp>
          <p:nvSpPr>
            <p:cNvPr id="189" name="Прямоугольник 36"/>
            <p:cNvSpPr/>
            <p:nvPr/>
          </p:nvSpPr>
          <p:spPr>
            <a:xfrm>
              <a:off x="0" y="0"/>
              <a:ext cx="1186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2" descr="http://kogolika.com/wp-content/uploads/2012/04/%D0%93%D0%943.jpg"/>
            <p:cNvPicPr/>
            <p:nvPr/>
          </p:nvPicPr>
          <p:blipFill>
            <a:blip r:embed="rId9"/>
            <a:srcRect l="12385" t="13493" r="12601" b="13656"/>
            <a:stretch/>
          </p:blipFill>
          <p:spPr>
            <a:xfrm>
              <a:off x="23040" y="128520"/>
              <a:ext cx="114048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0484e1da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6"/>
          <p:cNvSpPr/>
          <p:nvPr/>
        </p:nvSpPr>
        <p:spPr>
          <a:xfrm>
            <a:off x="1187280" y="12600"/>
            <a:ext cx="6769440" cy="1079640"/>
          </a:xfrm>
          <a:prstGeom prst="rect">
            <a:avLst/>
          </a:prstGeom>
          <a:solidFill>
            <a:srgbClr val="71685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 Light"/>
              </a:rPr>
              <a:t>Комплекс организационно-правовых мер по повышению эффективности использования земель с/х назначения</a:t>
            </a: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8"/>
          <p:cNvSpPr/>
          <p:nvPr/>
        </p:nvSpPr>
        <p:spPr>
          <a:xfrm>
            <a:off x="8028000" y="12600"/>
            <a:ext cx="104472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6"/>
          <p:cNvSpPr/>
          <p:nvPr/>
        </p:nvSpPr>
        <p:spPr>
          <a:xfrm>
            <a:off x="69840" y="19080"/>
            <a:ext cx="104292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http://kogolika.com/wp-content/uploads/2012/04/%D0%93%D0%943.jpg"/>
          <p:cNvPicPr/>
          <p:nvPr/>
        </p:nvPicPr>
        <p:blipFill>
          <a:blip r:embed="rId2"/>
          <a:srcRect l="12385" t="13493" r="12601" b="13656"/>
          <a:stretch/>
        </p:blipFill>
        <p:spPr>
          <a:xfrm>
            <a:off x="90360" y="147600"/>
            <a:ext cx="1001880" cy="80964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36"/>
          <p:cNvGrpSpPr/>
          <p:nvPr/>
        </p:nvGrpSpPr>
        <p:grpSpPr>
          <a:xfrm>
            <a:off x="318960" y="1434960"/>
            <a:ext cx="8429760" cy="5327640"/>
            <a:chOff x="318960" y="1434960"/>
            <a:chExt cx="8429760" cy="5327640"/>
          </a:xfrm>
        </p:grpSpPr>
        <p:sp>
          <p:nvSpPr>
            <p:cNvPr id="197" name="Shape 6"/>
            <p:cNvSpPr/>
            <p:nvPr/>
          </p:nvSpPr>
          <p:spPr>
            <a:xfrm>
              <a:off x="6141960" y="4965480"/>
              <a:ext cx="2606760" cy="179712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hape 7"/>
            <p:cNvSpPr/>
            <p:nvPr/>
          </p:nvSpPr>
          <p:spPr>
            <a:xfrm>
              <a:off x="318960" y="4965480"/>
              <a:ext cx="2597040" cy="179712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hape 9"/>
            <p:cNvSpPr/>
            <p:nvPr/>
          </p:nvSpPr>
          <p:spPr>
            <a:xfrm>
              <a:off x="333360" y="1434960"/>
              <a:ext cx="2400480" cy="170568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hape 10"/>
            <p:cNvSpPr/>
            <p:nvPr/>
          </p:nvSpPr>
          <p:spPr>
            <a:xfrm>
              <a:off x="3197520" y="1566720"/>
              <a:ext cx="2520720" cy="136836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hape 11"/>
            <p:cNvSpPr/>
            <p:nvPr/>
          </p:nvSpPr>
          <p:spPr>
            <a:xfrm>
              <a:off x="6661440" y="1434960"/>
              <a:ext cx="1900080" cy="158112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28"/>
            <p:cNvGrpSpPr/>
            <p:nvPr/>
          </p:nvGrpSpPr>
          <p:grpSpPr>
            <a:xfrm>
              <a:off x="1092240" y="3016080"/>
              <a:ext cx="6730920" cy="1949400"/>
              <a:chOff x="1092240" y="3016080"/>
              <a:chExt cx="6730920" cy="1949400"/>
            </a:xfrm>
          </p:grpSpPr>
          <p:sp>
            <p:nvSpPr>
              <p:cNvPr id="203" name="Shape 13"/>
              <p:cNvSpPr/>
              <p:nvPr/>
            </p:nvSpPr>
            <p:spPr>
              <a:xfrm>
                <a:off x="1187280" y="3990600"/>
                <a:ext cx="6635880" cy="18720"/>
              </a:xfrm>
              <a:prstGeom prst="line">
                <a:avLst/>
              </a:prstGeom>
              <a:ln w="63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Shape 14"/>
              <p:cNvSpPr/>
              <p:nvPr/>
            </p:nvSpPr>
            <p:spPr>
              <a:xfrm>
                <a:off x="7731000" y="3978000"/>
                <a:ext cx="9360" cy="987480"/>
              </a:xfrm>
              <a:prstGeom prst="line">
                <a:avLst/>
              </a:prstGeom>
              <a:ln w="381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Shape 15"/>
              <p:cNvSpPr/>
              <p:nvPr/>
            </p:nvSpPr>
            <p:spPr>
              <a:xfrm flipH="1">
                <a:off x="1187640" y="3978000"/>
                <a:ext cx="1440" cy="987480"/>
              </a:xfrm>
              <a:prstGeom prst="line">
                <a:avLst/>
              </a:prstGeom>
              <a:ln w="381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Shape 17"/>
              <p:cNvSpPr/>
              <p:nvPr/>
            </p:nvSpPr>
            <p:spPr>
              <a:xfrm flipV="1">
                <a:off x="1187280" y="3016080"/>
                <a:ext cx="20520" cy="961920"/>
              </a:xfrm>
              <a:prstGeom prst="line">
                <a:avLst/>
              </a:prstGeom>
              <a:ln w="4428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Shape 18"/>
              <p:cNvSpPr/>
              <p:nvPr/>
            </p:nvSpPr>
            <p:spPr>
              <a:xfrm flipV="1">
                <a:off x="4446720" y="3016080"/>
                <a:ext cx="10800" cy="961920"/>
              </a:xfrm>
              <a:prstGeom prst="line">
                <a:avLst/>
              </a:prstGeom>
              <a:ln w="381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Shape 19"/>
              <p:cNvSpPr/>
              <p:nvPr/>
            </p:nvSpPr>
            <p:spPr>
              <a:xfrm flipH="1" flipV="1">
                <a:off x="7716600" y="3016080"/>
                <a:ext cx="4680" cy="961920"/>
              </a:xfrm>
              <a:prstGeom prst="line">
                <a:avLst/>
              </a:prstGeom>
              <a:ln w="381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Shape 21"/>
              <p:cNvSpPr/>
              <p:nvPr/>
            </p:nvSpPr>
            <p:spPr>
              <a:xfrm>
                <a:off x="1092240" y="3911400"/>
                <a:ext cx="212400" cy="19836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Shape 23"/>
              <p:cNvSpPr/>
              <p:nvPr/>
            </p:nvSpPr>
            <p:spPr>
              <a:xfrm>
                <a:off x="4351320" y="3911400"/>
                <a:ext cx="212400" cy="19836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Shape 25"/>
              <p:cNvSpPr/>
              <p:nvPr/>
            </p:nvSpPr>
            <p:spPr>
              <a:xfrm>
                <a:off x="7610760" y="3911400"/>
                <a:ext cx="212400" cy="19836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Shape 29"/>
            <p:cNvSpPr/>
            <p:nvPr/>
          </p:nvSpPr>
          <p:spPr>
            <a:xfrm>
              <a:off x="476280" y="1566720"/>
              <a:ext cx="2151360" cy="146376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hape 30"/>
            <p:cNvSpPr/>
            <p:nvPr/>
          </p:nvSpPr>
          <p:spPr>
            <a:xfrm>
              <a:off x="3341880" y="1704600"/>
              <a:ext cx="2232000" cy="10922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1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hape 31"/>
            <p:cNvSpPr/>
            <p:nvPr/>
          </p:nvSpPr>
          <p:spPr>
            <a:xfrm>
              <a:off x="6815520" y="1566720"/>
              <a:ext cx="1573200" cy="131760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1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hape 34"/>
            <p:cNvSpPr/>
            <p:nvPr/>
          </p:nvSpPr>
          <p:spPr>
            <a:xfrm>
              <a:off x="6353280" y="5097240"/>
              <a:ext cx="2232000" cy="156852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1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hape 35"/>
            <p:cNvSpPr/>
            <p:nvPr/>
          </p:nvSpPr>
          <p:spPr>
            <a:xfrm>
              <a:off x="459360" y="5062320"/>
              <a:ext cx="2274840" cy="16034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1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1"/>
          <p:cNvSpPr/>
          <p:nvPr/>
        </p:nvSpPr>
        <p:spPr>
          <a:xfrm>
            <a:off x="538200" y="1511280"/>
            <a:ext cx="215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отка и реализация Стратегии и Федеральной целевой программы вовлечения в севооборот неиспользованных земель сельхозна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2"/>
          <p:cNvSpPr/>
          <p:nvPr/>
        </p:nvSpPr>
        <p:spPr>
          <a:xfrm>
            <a:off x="3276720" y="1626840"/>
            <a:ext cx="237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аботка и реализация ФЦП «Восстановление и охрана плодородия поч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3"/>
          <p:cNvSpPr/>
          <p:nvPr/>
        </p:nvSpPr>
        <p:spPr>
          <a:xfrm>
            <a:off x="6659640" y="1645560"/>
            <a:ext cx="187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отка и принятие новой редакции Федерального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О земле-устройств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4"/>
          <p:cNvSpPr/>
          <p:nvPr/>
        </p:nvSpPr>
        <p:spPr>
          <a:xfrm>
            <a:off x="611280" y="5262480"/>
            <a:ext cx="187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аботка и принятие  Федерального зак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Об охране поч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5"/>
          <p:cNvSpPr/>
          <p:nvPr/>
        </p:nvSpPr>
        <p:spPr>
          <a:xfrm>
            <a:off x="6516720" y="515556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аботка и принятие Федерального зак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О социальном развитии села 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hape 14"/>
          <p:cNvSpPr/>
          <p:nvPr/>
        </p:nvSpPr>
        <p:spPr>
          <a:xfrm>
            <a:off x="4468680" y="3990960"/>
            <a:ext cx="9720" cy="9874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hape 6"/>
          <p:cNvSpPr/>
          <p:nvPr/>
        </p:nvSpPr>
        <p:spPr>
          <a:xfrm>
            <a:off x="3201840" y="4941720"/>
            <a:ext cx="2606760" cy="1797120"/>
          </a:xfrm>
          <a:prstGeom prst="roundRect">
            <a:avLst>
              <a:gd name="adj" fmla="val 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hape 34"/>
          <p:cNvSpPr/>
          <p:nvPr/>
        </p:nvSpPr>
        <p:spPr>
          <a:xfrm>
            <a:off x="3413160" y="5073480"/>
            <a:ext cx="2232000" cy="15685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3543480" y="519516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аботка и принятие изменений в Федеральный зак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О торговл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6" descr="10484e1dac"/>
          <p:cNvPicPr/>
          <p:nvPr/>
        </p:nvPicPr>
        <p:blipFill>
          <a:blip r:embed="rId1"/>
          <a:stretch/>
        </p:blipFill>
        <p:spPr>
          <a:xfrm>
            <a:off x="-114480" y="-1764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8"/>
          <p:cNvSpPr/>
          <p:nvPr/>
        </p:nvSpPr>
        <p:spPr>
          <a:xfrm>
            <a:off x="8028000" y="12600"/>
            <a:ext cx="104472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6"/>
          <p:cNvSpPr/>
          <p:nvPr/>
        </p:nvSpPr>
        <p:spPr>
          <a:xfrm>
            <a:off x="69840" y="19080"/>
            <a:ext cx="104292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://kogolika.com/wp-content/uploads/2012/04/%D0%93%D0%943.jpg"/>
          <p:cNvPicPr/>
          <p:nvPr/>
        </p:nvPicPr>
        <p:blipFill>
          <a:blip r:embed="rId2"/>
          <a:srcRect l="12385" t="13493" r="12601" b="13656"/>
          <a:stretch/>
        </p:blipFill>
        <p:spPr>
          <a:xfrm>
            <a:off x="0" y="19080"/>
            <a:ext cx="1449360" cy="11062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6"/>
          <p:cNvGrpSpPr/>
          <p:nvPr/>
        </p:nvGrpSpPr>
        <p:grpSpPr>
          <a:xfrm>
            <a:off x="333360" y="1434960"/>
            <a:ext cx="8228160" cy="5327640"/>
            <a:chOff x="333360" y="1434960"/>
            <a:chExt cx="8228160" cy="5327640"/>
          </a:xfrm>
        </p:grpSpPr>
        <p:sp>
          <p:nvSpPr>
            <p:cNvPr id="232" name="Shape 6"/>
            <p:cNvSpPr/>
            <p:nvPr/>
          </p:nvSpPr>
          <p:spPr>
            <a:xfrm>
              <a:off x="5004000" y="4965480"/>
              <a:ext cx="2606760" cy="179712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hape 7"/>
            <p:cNvSpPr/>
            <p:nvPr/>
          </p:nvSpPr>
          <p:spPr>
            <a:xfrm>
              <a:off x="1449360" y="4965480"/>
              <a:ext cx="2597040" cy="179712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hape 9"/>
            <p:cNvSpPr/>
            <p:nvPr/>
          </p:nvSpPr>
          <p:spPr>
            <a:xfrm>
              <a:off x="333360" y="1434960"/>
              <a:ext cx="2232000" cy="158112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hape 10"/>
            <p:cNvSpPr/>
            <p:nvPr/>
          </p:nvSpPr>
          <p:spPr>
            <a:xfrm>
              <a:off x="3197160" y="1566720"/>
              <a:ext cx="2521080" cy="136836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hape 11"/>
            <p:cNvSpPr/>
            <p:nvPr/>
          </p:nvSpPr>
          <p:spPr>
            <a:xfrm>
              <a:off x="6661440" y="1434960"/>
              <a:ext cx="1900080" cy="1581120"/>
            </a:xfrm>
            <a:prstGeom prst="roundRect">
              <a:avLst>
                <a:gd name="adj" fmla="val 0"/>
              </a:avLst>
            </a:prstGeom>
            <a:solidFill>
              <a:srgbClr val="779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spcBef>
                  <a:spcPts val="5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8"/>
            <p:cNvGrpSpPr/>
            <p:nvPr/>
          </p:nvGrpSpPr>
          <p:grpSpPr>
            <a:xfrm>
              <a:off x="1091880" y="3015360"/>
              <a:ext cx="6732000" cy="1950120"/>
              <a:chOff x="1091880" y="3015360"/>
              <a:chExt cx="6732000" cy="1950120"/>
            </a:xfrm>
          </p:grpSpPr>
          <p:sp>
            <p:nvSpPr>
              <p:cNvPr id="238" name="Shape 13"/>
              <p:cNvSpPr/>
              <p:nvPr/>
            </p:nvSpPr>
            <p:spPr>
              <a:xfrm>
                <a:off x="1186920" y="3990600"/>
                <a:ext cx="6636960" cy="18720"/>
              </a:xfrm>
              <a:prstGeom prst="line">
                <a:avLst/>
              </a:prstGeom>
              <a:ln w="63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Shape 14"/>
              <p:cNvSpPr/>
              <p:nvPr/>
            </p:nvSpPr>
            <p:spPr>
              <a:xfrm>
                <a:off x="6077520" y="3978000"/>
                <a:ext cx="9360" cy="987480"/>
              </a:xfrm>
              <a:prstGeom prst="line">
                <a:avLst/>
              </a:prstGeom>
              <a:ln w="381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Shape 15"/>
              <p:cNvSpPr/>
              <p:nvPr/>
            </p:nvSpPr>
            <p:spPr>
              <a:xfrm flipH="1">
                <a:off x="2828880" y="3978000"/>
                <a:ext cx="1440" cy="987480"/>
              </a:xfrm>
              <a:prstGeom prst="line">
                <a:avLst/>
              </a:prstGeom>
              <a:ln w="381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Shape 17"/>
              <p:cNvSpPr/>
              <p:nvPr/>
            </p:nvSpPr>
            <p:spPr>
              <a:xfrm flipV="1">
                <a:off x="1186920" y="3015360"/>
                <a:ext cx="20520" cy="962280"/>
              </a:xfrm>
              <a:prstGeom prst="line">
                <a:avLst/>
              </a:prstGeom>
              <a:ln w="4428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Shape 18"/>
              <p:cNvSpPr/>
              <p:nvPr/>
            </p:nvSpPr>
            <p:spPr>
              <a:xfrm flipV="1">
                <a:off x="4446720" y="3015360"/>
                <a:ext cx="10800" cy="962280"/>
              </a:xfrm>
              <a:prstGeom prst="line">
                <a:avLst/>
              </a:prstGeom>
              <a:ln w="381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Shape 19"/>
              <p:cNvSpPr/>
              <p:nvPr/>
            </p:nvSpPr>
            <p:spPr>
              <a:xfrm flipH="1" flipV="1">
                <a:off x="7717320" y="3015360"/>
                <a:ext cx="4680" cy="962280"/>
              </a:xfrm>
              <a:prstGeom prst="line">
                <a:avLst/>
              </a:prstGeom>
              <a:ln w="38160">
                <a:solidFill>
                  <a:srgbClr val="1f49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Shape 21"/>
              <p:cNvSpPr/>
              <p:nvPr/>
            </p:nvSpPr>
            <p:spPr>
              <a:xfrm>
                <a:off x="1091880" y="3911040"/>
                <a:ext cx="212760" cy="1983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Shape 22"/>
              <p:cNvSpPr/>
              <p:nvPr/>
            </p:nvSpPr>
            <p:spPr>
              <a:xfrm>
                <a:off x="2720880" y="3911040"/>
                <a:ext cx="214200" cy="19836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Shape 23"/>
              <p:cNvSpPr/>
              <p:nvPr/>
            </p:nvSpPr>
            <p:spPr>
              <a:xfrm>
                <a:off x="4351320" y="3911040"/>
                <a:ext cx="212760" cy="1983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Shape 24"/>
              <p:cNvSpPr/>
              <p:nvPr/>
            </p:nvSpPr>
            <p:spPr>
              <a:xfrm>
                <a:off x="5980680" y="3911040"/>
                <a:ext cx="214200" cy="19836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Shape 25"/>
              <p:cNvSpPr/>
              <p:nvPr/>
            </p:nvSpPr>
            <p:spPr>
              <a:xfrm>
                <a:off x="7611120" y="3911040"/>
                <a:ext cx="212760" cy="1983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Shape 29"/>
            <p:cNvSpPr/>
            <p:nvPr/>
          </p:nvSpPr>
          <p:spPr>
            <a:xfrm>
              <a:off x="475920" y="1566720"/>
              <a:ext cx="1946160" cy="131760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Helvetica Neue Light"/>
                </a:rPr>
                <a:t>становлен действенный механизм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орядка изъятия земельных участков из земель с/х назначения при их неиспользовании по целевому назначению или использовании с нарушением законодательства РФ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hape 30"/>
            <p:cNvSpPr/>
            <p:nvPr/>
          </p:nvSpPr>
          <p:spPr>
            <a:xfrm>
              <a:off x="3341520" y="1704600"/>
              <a:ext cx="2232000" cy="10922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1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hape 31"/>
            <p:cNvSpPr/>
            <p:nvPr/>
          </p:nvSpPr>
          <p:spPr>
            <a:xfrm>
              <a:off x="6815520" y="1566720"/>
              <a:ext cx="1573200" cy="131760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1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hape 34"/>
            <p:cNvSpPr/>
            <p:nvPr/>
          </p:nvSpPr>
          <p:spPr>
            <a:xfrm>
              <a:off x="5214960" y="5097240"/>
              <a:ext cx="2232000" cy="156852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1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hape 35"/>
            <p:cNvSpPr/>
            <p:nvPr/>
          </p:nvSpPr>
          <p:spPr>
            <a:xfrm>
              <a:off x="1611360" y="5062320"/>
              <a:ext cx="2274840" cy="16034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1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"/>
          <p:cNvSpPr/>
          <p:nvPr/>
        </p:nvSpPr>
        <p:spPr>
          <a:xfrm>
            <a:off x="344520" y="3213000"/>
            <a:ext cx="1706400" cy="550440"/>
          </a:xfrm>
          <a:prstGeom prst="rect">
            <a:avLst/>
          </a:prstGeom>
          <a:solidFill>
            <a:srgbClr val="dce6f2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 июля 2016 г. №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54-ФЗ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0"/>
          <p:cNvSpPr/>
          <p:nvPr/>
        </p:nvSpPr>
        <p:spPr>
          <a:xfrm>
            <a:off x="1835280" y="4221000"/>
            <a:ext cx="1944720" cy="520200"/>
          </a:xfrm>
          <a:prstGeom prst="rect">
            <a:avLst/>
          </a:prstGeom>
          <a:solidFill>
            <a:srgbClr val="dce6f2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рабатывается Минсельхозом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5148360" y="4221000"/>
            <a:ext cx="2016000" cy="520200"/>
          </a:xfrm>
          <a:prstGeom prst="rect">
            <a:avLst/>
          </a:prstGeom>
          <a:solidFill>
            <a:srgbClr val="dce6f2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рабатывается Минсельхозом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3"/>
          <p:cNvSpPr/>
          <p:nvPr/>
        </p:nvSpPr>
        <p:spPr>
          <a:xfrm>
            <a:off x="5213520" y="5097600"/>
            <a:ext cx="2233440" cy="274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11253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0"/>
          <p:cNvSpPr/>
          <p:nvPr/>
        </p:nvSpPr>
        <p:spPr>
          <a:xfrm>
            <a:off x="3564000" y="3284640"/>
            <a:ext cx="1706400" cy="307080"/>
          </a:xfrm>
          <a:prstGeom prst="rect">
            <a:avLst/>
          </a:prstGeom>
          <a:solidFill>
            <a:srgbClr val="dce6f2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ФЗ №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009633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0"/>
          <p:cNvSpPr/>
          <p:nvPr/>
        </p:nvSpPr>
        <p:spPr>
          <a:xfrm>
            <a:off x="6804000" y="3284640"/>
            <a:ext cx="1706760" cy="307080"/>
          </a:xfrm>
          <a:prstGeom prst="rect">
            <a:avLst/>
          </a:prstGeom>
          <a:solidFill>
            <a:srgbClr val="dce6f2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ФЗ №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4242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4"/>
          <p:cNvSpPr/>
          <p:nvPr/>
        </p:nvSpPr>
        <p:spPr>
          <a:xfrm>
            <a:off x="3276720" y="1843920"/>
            <a:ext cx="230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налогообложении земель, не используемых по целевому назнач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5"/>
          <p:cNvSpPr/>
          <p:nvPr/>
        </p:nvSpPr>
        <p:spPr>
          <a:xfrm>
            <a:off x="6659640" y="1718640"/>
            <a:ext cx="190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ршенствования механизма залога земельных участков из земель с/х назна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6"/>
          <p:cNvSpPr/>
          <p:nvPr/>
        </p:nvSpPr>
        <p:spPr>
          <a:xfrm>
            <a:off x="1547640" y="5157000"/>
            <a:ext cx="244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граничение случаев размещения объектов, не связанных с сельскохозяйственным производством, на сельскохозяйственных угодь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7"/>
          <p:cNvSpPr/>
          <p:nvPr/>
        </p:nvSpPr>
        <p:spPr>
          <a:xfrm>
            <a:off x="5148360" y="5233680"/>
            <a:ext cx="2374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вершенствование порядка проведения  государственного мониторинга земель в отношении земель с/х назначения и земель, используемых или предоставленных для ведения сельского хозяйства в составе земель иных категори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1332000" y="12600"/>
            <a:ext cx="6624720" cy="1079640"/>
          </a:xfrm>
          <a:prstGeom prst="rect">
            <a:avLst/>
          </a:prstGeom>
          <a:solidFill>
            <a:srgbClr val="71685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 Light"/>
              </a:rPr>
              <a:t>Комплекс организационно-правовых мер по повышению эффективности использования земель с/х назначения</a:t>
            </a: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10484e1dac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981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1403280" y="0"/>
            <a:ext cx="7313760" cy="1052640"/>
          </a:xfrm>
          <a:prstGeom prst="rect">
            <a:avLst/>
          </a:prstGeom>
          <a:noFill/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c090"/>
                </a:solidFill>
                <a:latin typeface="Segoe UI Light"/>
              </a:rPr>
              <a:t>РАСПРЕДЕЛЕНИЕ ЗЕМЕЛЬ ПО КАТЕГОР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c090"/>
                </a:solidFill>
                <a:latin typeface="Segoe UI Light"/>
              </a:rPr>
              <a:t>И УГОДЬ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4746600" y="4076640"/>
            <a:ext cx="418644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179280" y="1268280"/>
            <a:ext cx="4186440" cy="252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4746600" y="1268280"/>
            <a:ext cx="4186440" cy="25210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0" y="0"/>
            <a:ext cx="1042920" cy="1079640"/>
            <a:chOff x="0" y="0"/>
            <a:chExt cx="1042920" cy="1079640"/>
          </a:xfrm>
        </p:grpSpPr>
        <p:sp>
          <p:nvSpPr>
            <p:cNvPr id="59" name="Прямоугольник 36"/>
            <p:cNvSpPr/>
            <p:nvPr/>
          </p:nvSpPr>
          <p:spPr>
            <a:xfrm>
              <a:off x="0" y="0"/>
              <a:ext cx="1042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2" descr="http://kogolika.com/wp-content/uploads/2012/04/%D0%93%D0%943.jpg"/>
            <p:cNvPicPr/>
            <p:nvPr/>
          </p:nvPicPr>
          <p:blipFill>
            <a:blip r:embed="rId6"/>
            <a:srcRect l="12385" t="13493" r="12601" b="13656"/>
            <a:stretch/>
          </p:blipFill>
          <p:spPr>
            <a:xfrm>
              <a:off x="20520" y="128520"/>
              <a:ext cx="1001880" cy="80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10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179280" y="4152960"/>
            <a:ext cx="41864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5" descr="10484e1dac"/>
          <p:cNvPicPr/>
          <p:nvPr/>
        </p:nvPicPr>
        <p:blipFill>
          <a:blip r:embed="rId1"/>
          <a:stretch/>
        </p:blipFill>
        <p:spPr>
          <a:xfrm>
            <a:off x="-81000" y="-84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932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042920" y="0"/>
            <a:ext cx="7559640" cy="936720"/>
          </a:xfrm>
          <a:prstGeom prst="rect">
            <a:avLst/>
          </a:prstGeom>
          <a:noFill/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99694"/>
                </a:solidFill>
                <a:latin typeface="Segoe UI Light"/>
              </a:rPr>
              <a:t>ДИНАМИКА ПЛОЩАДИ ЗЕМЕЛЬ С/Х НАЗНА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99694"/>
                </a:solidFill>
                <a:latin typeface="Segoe UI Light"/>
              </a:rPr>
              <a:t> </a:t>
            </a:r>
            <a:r>
              <a:rPr b="1" lang="ru-RU" sz="2000" spc="-1" strike="noStrike">
                <a:solidFill>
                  <a:srgbClr val="d99694"/>
                </a:solidFill>
                <a:latin typeface="Segoe UI Light"/>
              </a:rPr>
              <a:t>С/Х УГОДИЙ, ПОСЕВНЫХ ПЛОЩАДЕЙ ПО ГО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3156120" y="1341360"/>
            <a:ext cx="2784240" cy="179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6035760" y="1341360"/>
            <a:ext cx="2784240" cy="179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266760" y="1341360"/>
            <a:ext cx="2784240" cy="1798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7"/>
          <p:cNvSpPr/>
          <p:nvPr/>
        </p:nvSpPr>
        <p:spPr>
          <a:xfrm>
            <a:off x="266760" y="4889520"/>
            <a:ext cx="8553240" cy="1851120"/>
          </a:xfrm>
          <a:prstGeom prst="rect">
            <a:avLst/>
          </a:prstGeom>
          <a:noFill/>
          <a:ln w="1260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2349000" y="485928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UI Light"/>
              </a:rPr>
              <a:t>П о с е в н а я   п л о щ а д ь (тыс. г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6">
            <a:alphaModFix amt="50000"/>
          </a:blip>
          <a:stretch/>
        </p:blipFill>
        <p:spPr>
          <a:xfrm>
            <a:off x="3768840" y="5262480"/>
            <a:ext cx="161280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5411880" y="5261040"/>
            <a:ext cx="161280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"/>
          <p:cNvPicPr/>
          <p:nvPr/>
        </p:nvPicPr>
        <p:blipFill>
          <a:blip r:embed="rId8">
            <a:alphaModFix amt="50000"/>
          </a:blip>
          <a:stretch/>
        </p:blipFill>
        <p:spPr>
          <a:xfrm>
            <a:off x="301680" y="5262480"/>
            <a:ext cx="1676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"/>
          <p:cNvPicPr/>
          <p:nvPr/>
        </p:nvPicPr>
        <p:blipFill>
          <a:blip r:embed="rId9">
            <a:alphaModFix amt="50000"/>
          </a:blip>
          <a:stretch/>
        </p:blipFill>
        <p:spPr>
          <a:xfrm>
            <a:off x="2003400" y="5262480"/>
            <a:ext cx="173988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10">
            <a:alphaModFix amt="50000"/>
          </a:blip>
          <a:stretch/>
        </p:blipFill>
        <p:spPr>
          <a:xfrm>
            <a:off x="257040" y="3213000"/>
            <a:ext cx="8562960" cy="159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11">
            <a:alphaModFix amt="50000"/>
          </a:blip>
          <a:stretch/>
        </p:blipFill>
        <p:spPr>
          <a:xfrm>
            <a:off x="7056360" y="5261040"/>
            <a:ext cx="1738440" cy="14396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6"/>
          <p:cNvGrpSpPr/>
          <p:nvPr/>
        </p:nvGrpSpPr>
        <p:grpSpPr>
          <a:xfrm>
            <a:off x="0" y="0"/>
            <a:ext cx="1042920" cy="1079640"/>
            <a:chOff x="0" y="0"/>
            <a:chExt cx="1042920" cy="1079640"/>
          </a:xfrm>
        </p:grpSpPr>
        <p:sp>
          <p:nvSpPr>
            <p:cNvPr id="77" name="Прямоугольник 36"/>
            <p:cNvSpPr/>
            <p:nvPr/>
          </p:nvSpPr>
          <p:spPr>
            <a:xfrm>
              <a:off x="0" y="0"/>
              <a:ext cx="1042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2" descr="http://kogolika.com/wp-content/uploads/2012/04/%D0%93%D0%943.jpg"/>
            <p:cNvPicPr/>
            <p:nvPr/>
          </p:nvPicPr>
          <p:blipFill>
            <a:blip r:embed="rId12"/>
            <a:srcRect l="12385" t="13493" r="12601" b="13656"/>
            <a:stretch/>
          </p:blipFill>
          <p:spPr>
            <a:xfrm>
              <a:off x="20520" y="128520"/>
              <a:ext cx="100188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3" descr="10484e1da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Овал 3"/>
          <p:cNvSpPr/>
          <p:nvPr/>
        </p:nvSpPr>
        <p:spPr>
          <a:xfrm>
            <a:off x="714240" y="1173240"/>
            <a:ext cx="7785360" cy="5262480"/>
          </a:xfrm>
          <a:prstGeom prst="ellipse">
            <a:avLst/>
          </a:prstGeom>
          <a:solidFill>
            <a:srgbClr val="fcd5b5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"/>
          <p:cNvSpPr/>
          <p:nvPr/>
        </p:nvSpPr>
        <p:spPr>
          <a:xfrm>
            <a:off x="3081240" y="2135160"/>
            <a:ext cx="4940280" cy="3338640"/>
          </a:xfrm>
          <a:prstGeom prst="ellipse">
            <a:avLst/>
          </a:prstGeom>
          <a:solidFill>
            <a:srgbClr val="fcd5b5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5"/>
          <p:cNvSpPr/>
          <p:nvPr/>
        </p:nvSpPr>
        <p:spPr>
          <a:xfrm>
            <a:off x="3967200" y="3127320"/>
            <a:ext cx="2906640" cy="1963800"/>
          </a:xfrm>
          <a:prstGeom prst="ellipse">
            <a:avLst/>
          </a:prstGeom>
          <a:solidFill>
            <a:srgbClr val="fcd5b5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1197000"/>
            <a:ext cx="3137040" cy="5471280"/>
          </a:xfrm>
          <a:prstGeom prst="rect">
            <a:avLst/>
          </a:prstGeom>
          <a:solidFill>
            <a:srgbClr val="e6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КОНОМ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23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ИБКАЯ ФИСКАЛЬНАЯ ПОЛИТИКА, СТИМУЛИРУЮЩАЯ ВОВЛЕЧЕНИЕ НЕИСПОЛЬЗУЕМЫХ ЗЕМЕЛЬ В СЕЛЬСКОХОЗЯЙСТВЕН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23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АЯ ПОДДЕРЖКА МЕЛИОРАЦИИ (СУБСИДИИ НА ВОЗМЕЩЕНИЕ ЗАТРАТ С/ХТОВАРОПРИЗВОДИТЕ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23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ОСТАВЛЕНИЕ С/ХТЕХНИКИ СЕЛЬХОЗТОВАРОПРОИЗВОДИТЕЛЯМ, ОБЕСПЕЧИВШИМ ВОВЛЕЧЕНИЕ НЕИСПОЛЬЗУЕМЫХ ЗЕМЕЛЬ В С/ХОБО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23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23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23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305400" y="1125360"/>
            <a:ext cx="2838600" cy="5549040"/>
          </a:xfrm>
          <a:prstGeom prst="rect">
            <a:avLst/>
          </a:prstGeom>
          <a:solidFill>
            <a:srgbClr val="e6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ts val="1823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23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ВИТИЕ, ГОСУДАРСТВЕННАЯ ПОДДЕРЖКА ИНСТИТУТОВ ПЛАНИРОВАНИЯ  И ЗЕМЛЕУСТРО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ЛОШНАЯ ИНВЕНТАРИЗАЦИЯ 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ВЕРШЕНСТВОВАНИЕ ЗЕМЕЛЬНОГО НАДЗ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ВЕРШЕНСТВОВАНИЕ МЕТОДИКИ КАДАСТРОВОЙ ОЦЕНКИ ЗЕМЕЛЬ СХ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РМИРОВАНИЕ ПЕРЕЧНЕЙ И УСТАНОВЛЕНИЕ ГРАНИЦ ОСОБО ЦЕННЫХ СЕЛЬСКОХОЗЯЙСТВЕННЫХ УГО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РМИРОВАНИЕ ГИС О ЗЕМЛЯХ СХ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3736800" y="1623960"/>
            <a:ext cx="186876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3165480" y="1641600"/>
            <a:ext cx="288144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1599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  <a:ea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  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ПЛОЩАДЬ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28,3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МЛН. ГА  (ДАННЫЕ МИНСЕЛЬХОЗА РОССИИ,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2015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Г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8%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ВСЕХ ЗЕМЕЛЬ С/Х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 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ИЗ НИХ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20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МЛН. ГА – ПАШ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55,6%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- В ГОСУДАРСТВЕННОЙ И МУНИЦИПАЛЬНОЙ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44,4%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- В ЧАСТНОЙ СОБСТВЕННОСТИ, АРЕНДЕ, ПБП, ПН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 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11,4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 МЛН.  ГА НЕИСПОЛЬЗУЕМОЙ ПАШНИ ПРИГОДНО К ВОЗВРАЩЕНИЮ В С/ХОБО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97000"/>
            <a:ext cx="996840" cy="84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6300720" y="1125360"/>
            <a:ext cx="884160" cy="7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7846920" y="0"/>
            <a:ext cx="1297080" cy="89676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4"/>
          <p:cNvGrpSpPr/>
          <p:nvPr/>
        </p:nvGrpSpPr>
        <p:grpSpPr>
          <a:xfrm>
            <a:off x="0" y="0"/>
            <a:ext cx="1042920" cy="1079640"/>
            <a:chOff x="0" y="0"/>
            <a:chExt cx="1042920" cy="1079640"/>
          </a:xfrm>
        </p:grpSpPr>
        <p:sp>
          <p:nvSpPr>
            <p:cNvPr id="91" name="Прямоугольник 36"/>
            <p:cNvSpPr/>
            <p:nvPr/>
          </p:nvSpPr>
          <p:spPr>
            <a:xfrm>
              <a:off x="0" y="0"/>
              <a:ext cx="1042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2" descr="http://kogolika.com/wp-content/uploads/2012/04/%D0%93%D0%943.jpg"/>
            <p:cNvPicPr/>
            <p:nvPr/>
          </p:nvPicPr>
          <p:blipFill>
            <a:blip r:embed="rId5"/>
            <a:srcRect l="12385" t="13493" r="12601" b="13656"/>
            <a:stretch/>
          </p:blipFill>
          <p:spPr>
            <a:xfrm>
              <a:off x="20520" y="128520"/>
              <a:ext cx="100188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Прямоугольник 6"/>
          <p:cNvSpPr/>
          <p:nvPr/>
        </p:nvSpPr>
        <p:spPr>
          <a:xfrm>
            <a:off x="1187280" y="12600"/>
            <a:ext cx="6624720" cy="1079640"/>
          </a:xfrm>
          <a:prstGeom prst="rect">
            <a:avLst/>
          </a:prstGeom>
          <a:solidFill>
            <a:srgbClr val="71685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Ы ПО ВОВЛЕЧЕНИЮ НЕИСПОЛЬЗУЕМЫХ ЗЕМЕЛЬ С/Х НАЗНАЧЕНИЯ В СЕЛЬСКОХОЗЯЙСТВЕННОЕ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4200110"/>
          <p:cNvPicPr/>
          <p:nvPr/>
        </p:nvPicPr>
        <p:blipFill>
          <a:blip r:embed="rId1"/>
          <a:stretch/>
        </p:blipFill>
        <p:spPr>
          <a:xfrm>
            <a:off x="20520" y="12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418520" y="0"/>
            <a:ext cx="1725480" cy="981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1332000" y="0"/>
            <a:ext cx="7313400" cy="936720"/>
          </a:xfrm>
          <a:prstGeom prst="rect">
            <a:avLst/>
          </a:prstGeom>
          <a:noFill/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7933c"/>
                </a:solidFill>
                <a:latin typeface="Segoe UI Light"/>
              </a:rPr>
              <a:t>ДЕГРАДАЦИЯ ЗЕМЕЛЬ И ПОКАЗАТЕЛИ, ВЛИЯЮЩИЕ НА УРОЖАЙ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179280" y="1125360"/>
            <a:ext cx="2293920" cy="1962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3448080" y="1125360"/>
            <a:ext cx="2286000" cy="1955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6707160" y="1116000"/>
            <a:ext cx="2293920" cy="1962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5" descr=""/>
          <p:cNvPicPr/>
          <p:nvPr/>
        </p:nvPicPr>
        <p:blipFill>
          <a:blip r:embed="rId6">
            <a:alphaModFix amt="50000"/>
          </a:blip>
          <a:stretch/>
        </p:blipFill>
        <p:spPr>
          <a:xfrm>
            <a:off x="181080" y="5041800"/>
            <a:ext cx="4057560" cy="1751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6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179280" y="3213000"/>
            <a:ext cx="4059360" cy="1751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"/>
          <p:cNvPicPr/>
          <p:nvPr/>
        </p:nvPicPr>
        <p:blipFill>
          <a:blip r:embed="rId8">
            <a:alphaModFix amt="50000"/>
          </a:blip>
          <a:stretch/>
        </p:blipFill>
        <p:spPr>
          <a:xfrm>
            <a:off x="4356000" y="3500280"/>
            <a:ext cx="4316400" cy="3329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8"/>
          <p:cNvSpPr/>
          <p:nvPr/>
        </p:nvSpPr>
        <p:spPr>
          <a:xfrm>
            <a:off x="6156360" y="306864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Урожайность зерновых и зернобобовых культур (ц/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3"/>
          <p:cNvGrpSpPr/>
          <p:nvPr/>
        </p:nvGrpSpPr>
        <p:grpSpPr>
          <a:xfrm>
            <a:off x="0" y="0"/>
            <a:ext cx="1042920" cy="1079640"/>
            <a:chOff x="0" y="0"/>
            <a:chExt cx="1042920" cy="1079640"/>
          </a:xfrm>
        </p:grpSpPr>
        <p:sp>
          <p:nvSpPr>
            <p:cNvPr id="105" name="Прямоугольник 36"/>
            <p:cNvSpPr/>
            <p:nvPr/>
          </p:nvSpPr>
          <p:spPr>
            <a:xfrm>
              <a:off x="0" y="0"/>
              <a:ext cx="1042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" descr="http://kogolika.com/wp-content/uploads/2012/04/%D0%93%D0%943.jpg"/>
            <p:cNvPicPr/>
            <p:nvPr/>
          </p:nvPicPr>
          <p:blipFill>
            <a:blip r:embed="rId9"/>
            <a:srcRect l="12385" t="13493" r="12601" b="13656"/>
            <a:stretch/>
          </p:blipFill>
          <p:spPr>
            <a:xfrm>
              <a:off x="20520" y="128520"/>
              <a:ext cx="100188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DSC9223"/>
          <p:cNvPicPr/>
          <p:nvPr/>
        </p:nvPicPr>
        <p:blipFill>
          <a:blip r:embed="rId1"/>
          <a:stretch/>
        </p:blipFill>
        <p:spPr>
          <a:xfrm>
            <a:off x="-324000" y="1260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1187280" y="12600"/>
            <a:ext cx="6769440" cy="1079640"/>
          </a:xfrm>
          <a:prstGeom prst="rect">
            <a:avLst/>
          </a:prstGeom>
          <a:solidFill>
            <a:srgbClr val="71685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 Light"/>
              </a:rPr>
              <a:t>РАЦИОНАЛЬНОЕ ИСПОЛЬЗОВАНИЕ ЛЕСОВ НА ЗЕМЛЯХ С/Х НАЗНАЧЕНИЯ</a:t>
            </a: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kogolika.com/wp-content/uploads/2012/04/%D0%93%D0%943.jpg"/>
          <p:cNvPicPr/>
          <p:nvPr/>
        </p:nvPicPr>
        <p:blipFill>
          <a:blip r:embed="rId2"/>
          <a:srcRect l="12385" t="13493" r="12601" b="13656"/>
          <a:stretch/>
        </p:blipFill>
        <p:spPr>
          <a:xfrm>
            <a:off x="90360" y="147600"/>
            <a:ext cx="1001880" cy="809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user1\Pictures\tree-icon-0926014825.png"/>
          <p:cNvPicPr/>
          <p:nvPr/>
        </p:nvPicPr>
        <p:blipFill>
          <a:blip r:embed="rId3"/>
          <a:stretch/>
        </p:blipFill>
        <p:spPr>
          <a:xfrm>
            <a:off x="8070840" y="49320"/>
            <a:ext cx="1000080" cy="1004760"/>
          </a:xfrm>
          <a:prstGeom prst="rect">
            <a:avLst/>
          </a:prstGeom>
          <a:ln w="0">
            <a:noFill/>
          </a:ln>
        </p:spPr>
      </p:pic>
      <p:sp>
        <p:nvSpPr>
          <p:cNvPr id="111" name="Shape 42"/>
          <p:cNvSpPr/>
          <p:nvPr/>
        </p:nvSpPr>
        <p:spPr>
          <a:xfrm>
            <a:off x="3127320" y="4853160"/>
            <a:ext cx="41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09" y="377"/>
                </a:moveTo>
                <a:lnTo>
                  <a:pt x="10794" y="384"/>
                </a:lnTo>
                <a:lnTo>
                  <a:pt x="10580" y="377"/>
                </a:lnTo>
                <a:cubicBezTo>
                  <a:pt x="7656" y="304"/>
                  <a:pt x="4015" y="186"/>
                  <a:pt x="0" y="0"/>
                </a:cubicBez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ubicBezTo>
                  <a:pt x="17577" y="186"/>
                  <a:pt x="13933" y="304"/>
                  <a:pt x="11009" y="377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4"/>
          <p:cNvSpPr/>
          <p:nvPr/>
        </p:nvSpPr>
        <p:spPr>
          <a:xfrm>
            <a:off x="1440" y="4500720"/>
            <a:ext cx="1741680" cy="2253960"/>
          </a:xfrm>
          <a:prstGeom prst="rect">
            <a:avLst/>
          </a:prstGeom>
          <a:solidFill>
            <a:srgbClr val="dce6f2"/>
          </a:soli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f6228"/>
                </a:solidFill>
                <a:latin typeface="Calibri"/>
              </a:rPr>
              <a:t>РЫНОЧНАЯ СТОИМОСТЬ СПЕЛОЙ ДРЕВЕСИ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200 – 300 тыс. руб./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3684600" y="1181160"/>
            <a:ext cx="3757680" cy="976680"/>
          </a:xfrm>
          <a:prstGeom prst="rect">
            <a:avLst/>
          </a:prstGeom>
          <a:solidFill>
            <a:srgbClr val="d7e4bd"/>
          </a:soli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СОЗДАНИЕ ЛЕСНЫХ ПЛАНТАЦИЙ, ОРГАНИЗАЦИЯ ЦЕЛЕВЫХ ХОЗЯЙСТВ ОБЕСПЕЧЕНИЕ СЫРЬЕМ ЦЕЛЛЮЛОЗО-БУМАЖНОЙ ПРОМЫШЛЕНН</a:t>
            </a:r>
            <a:r>
              <a:rPr b="1" i="1" lang="ru-RU" sz="1600" spc="-1" strike="noStrike">
                <a:solidFill>
                  <a:srgbClr val="4f6228"/>
                </a:solidFill>
                <a:latin typeface="Calibri"/>
              </a:rPr>
              <a:t>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Группа 8"/>
          <p:cNvGrpSpPr/>
          <p:nvPr/>
        </p:nvGrpSpPr>
        <p:grpSpPr>
          <a:xfrm>
            <a:off x="2514600" y="2124000"/>
            <a:ext cx="6539040" cy="4646880"/>
            <a:chOff x="2514600" y="2124000"/>
            <a:chExt cx="6539040" cy="4646880"/>
          </a:xfrm>
        </p:grpSpPr>
        <p:grpSp>
          <p:nvGrpSpPr>
            <p:cNvPr id="115" name="Группа 11"/>
            <p:cNvGrpSpPr/>
            <p:nvPr/>
          </p:nvGrpSpPr>
          <p:grpSpPr>
            <a:xfrm>
              <a:off x="3717360" y="2124000"/>
              <a:ext cx="3435840" cy="3182040"/>
              <a:chOff x="3717360" y="2124000"/>
              <a:chExt cx="3435840" cy="3182040"/>
            </a:xfrm>
          </p:grpSpPr>
          <p:sp>
            <p:nvSpPr>
              <p:cNvPr id="116" name="Равнобедренный треугольник 18"/>
              <p:cNvSpPr/>
              <p:nvPr/>
            </p:nvSpPr>
            <p:spPr>
              <a:xfrm rot="17674200">
                <a:off x="3634560" y="2941560"/>
                <a:ext cx="1224000" cy="604800"/>
              </a:xfrm>
              <a:prstGeom prst="triangle">
                <a:avLst>
                  <a:gd name="adj" fmla="val 56148"/>
                </a:avLst>
              </a:prstGeom>
              <a:gradFill rotWithShape="0">
                <a:gsLst>
                  <a:gs pos="0">
                    <a:srgbClr val="1d4940"/>
                  </a:gs>
                  <a:gs pos="100000">
                    <a:srgbClr val="e1e8f5">
                      <a:alpha val="0"/>
                    </a:srgbClr>
                  </a:gs>
                </a:gsLst>
                <a:lin ang="932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Группа 10"/>
              <p:cNvGrpSpPr/>
              <p:nvPr/>
            </p:nvGrpSpPr>
            <p:grpSpPr>
              <a:xfrm>
                <a:off x="3850200" y="2124000"/>
                <a:ext cx="3303000" cy="3182040"/>
                <a:chOff x="3850200" y="2124000"/>
                <a:chExt cx="3303000" cy="3182040"/>
              </a:xfrm>
            </p:grpSpPr>
            <p:pic>
              <p:nvPicPr>
                <p:cNvPr id="118" name="Picture 2" descr="C:\Users\User\Desktop\2014-03-26 - Лебедев\In\Основы лесной политики25.pn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73240" y="2124000"/>
                  <a:ext cx="3132720" cy="309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Равнобедренный треугольник 21"/>
                <p:cNvSpPr/>
                <p:nvPr/>
              </p:nvSpPr>
              <p:spPr>
                <a:xfrm>
                  <a:off x="4868640" y="2196720"/>
                  <a:ext cx="1185840" cy="531720"/>
                </a:xfrm>
                <a:prstGeom prst="triangle">
                  <a:avLst>
                    <a:gd name="adj" fmla="val 50713"/>
                  </a:avLst>
                </a:prstGeom>
                <a:gradFill rotWithShape="0">
                  <a:gsLst>
                    <a:gs pos="0">
                      <a:srgbClr val="1d4940"/>
                    </a:gs>
                    <a:gs pos="100000">
                      <a:srgbClr val="e1e8f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2"/>
                <p:cNvSpPr/>
                <p:nvPr/>
              </p:nvSpPr>
              <p:spPr>
                <a:xfrm>
                  <a:off x="4738320" y="3152520"/>
                  <a:ext cx="135900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4f6228"/>
                      </a:solidFill>
                      <a:latin typeface="Calibri"/>
                    </a:rPr>
                    <a:t>&gt;55 МЛН. Г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4f6228"/>
                      </a:solidFill>
                      <a:latin typeface="Calibri"/>
                    </a:rPr>
                    <a:t>14,6% </a:t>
                  </a:r>
                  <a:r>
                    <a:rPr b="1" lang="ru-RU" sz="1300" spc="-1" strike="noStrike">
                      <a:solidFill>
                        <a:srgbClr val="4f6228"/>
                      </a:solidFill>
                      <a:latin typeface="Calibri"/>
                    </a:rPr>
                    <a:t>ПЛОЩАДИ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4f6228"/>
                      </a:solidFill>
                      <a:latin typeface="Calibri"/>
                    </a:rPr>
                    <a:t> </a:t>
                  </a:r>
                  <a:r>
                    <a:rPr b="1" lang="ru-RU" sz="1300" spc="-1" strike="noStrike">
                      <a:solidFill>
                        <a:srgbClr val="4f6228"/>
                      </a:solidFill>
                      <a:latin typeface="Calibri"/>
                    </a:rPr>
                    <a:t>ЗЕМЕЛЬ С/Х НАЗНАЧЕНИЯ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Равнобедренный треугольник 23"/>
                <p:cNvSpPr/>
                <p:nvPr/>
              </p:nvSpPr>
              <p:spPr>
                <a:xfrm rot="3759000">
                  <a:off x="6049440" y="2849400"/>
                  <a:ext cx="1133640" cy="622080"/>
                </a:xfrm>
                <a:prstGeom prst="triangle">
                  <a:avLst>
                    <a:gd name="adj" fmla="val 50931"/>
                  </a:avLst>
                </a:prstGeom>
                <a:gradFill rotWithShape="0">
                  <a:gsLst>
                    <a:gs pos="0">
                      <a:srgbClr val="1d4940"/>
                    </a:gs>
                    <a:gs pos="100000">
                      <a:srgbClr val="e1e8f5">
                        <a:alpha val="0"/>
                      </a:srgbClr>
                    </a:gs>
                  </a:gsLst>
                  <a:lin ang="164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Равнобедренный треугольник 25"/>
                <p:cNvSpPr/>
                <p:nvPr/>
              </p:nvSpPr>
              <p:spPr>
                <a:xfrm rot="13326000">
                  <a:off x="3907440" y="4331880"/>
                  <a:ext cx="1227240" cy="644400"/>
                </a:xfrm>
                <a:prstGeom prst="triangle">
                  <a:avLst>
                    <a:gd name="adj" fmla="val 54315"/>
                  </a:avLst>
                </a:prstGeom>
                <a:gradFill rotWithShape="0">
                  <a:gsLst>
                    <a:gs pos="0">
                      <a:srgbClr val="1d4940"/>
                    </a:gs>
                    <a:gs pos="100000">
                      <a:srgbClr val="e1e8f5">
                        <a:alpha val="0"/>
                      </a:srgbClr>
                    </a:gs>
                  </a:gsLst>
                  <a:lin ang="1367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Равнобедренный треугольник 26"/>
                <p:cNvSpPr/>
                <p:nvPr/>
              </p:nvSpPr>
              <p:spPr>
                <a:xfrm rot="8066400">
                  <a:off x="5768640" y="4353480"/>
                  <a:ext cx="1235160" cy="601560"/>
                </a:xfrm>
                <a:prstGeom prst="triangle">
                  <a:avLst>
                    <a:gd name="adj" fmla="val 50713"/>
                  </a:avLst>
                </a:prstGeom>
                <a:gradFill rotWithShape="0">
                  <a:gsLst>
                    <a:gs pos="0">
                      <a:srgbClr val="1d4940"/>
                    </a:gs>
                    <a:gs pos="100000">
                      <a:srgbClr val="e1e8f5">
                        <a:alpha val="0"/>
                      </a:srgbClr>
                    </a:gs>
                  </a:gsLst>
                  <a:lin ang="189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TextBox 33"/>
            <p:cNvSpPr/>
            <p:nvPr/>
          </p:nvSpPr>
          <p:spPr>
            <a:xfrm>
              <a:off x="2514600" y="4898880"/>
              <a:ext cx="2718000" cy="17989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1f497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4f6228"/>
                  </a:solidFill>
                  <a:latin typeface="Calibri"/>
                </a:rPr>
                <a:t>ОБЕСПЕЧЕНИЕ НАСЕЛЕНИЯ ДРЕВЕСИНОЙ ДЛЯ СОБСТВЕННЫХ НУЖД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4f6228"/>
                  </a:solidFill>
                  <a:latin typeface="Calibri"/>
                </a:rPr>
                <a:t>(СТРОИТЕЛЬСТВО И РЕМОНТ ЖИЛЬЯ И ХОЗ.ПОСТРОЕК, ОТОПЛ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4"/>
            <p:cNvSpPr/>
            <p:nvPr/>
          </p:nvSpPr>
          <p:spPr>
            <a:xfrm>
              <a:off x="6332760" y="4971960"/>
              <a:ext cx="2720880" cy="17989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1f497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4f6228"/>
                  </a:solidFill>
                  <a:latin typeface="Calibri"/>
                </a:rPr>
                <a:t>РАЗВИТИЕ МАЛОГО И СРЕДНЕГО БИЗНЕСА В СФЕРЕ ИСПОЛЬЗОВАНИЯ ЛЕСОВ, НЕ СВЯЗАННОГО С ЗАГОТОВКОЙ ДРЕВЕС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4f6228"/>
                  </a:solidFill>
                  <a:latin typeface="Calibri"/>
                </a:rPr>
                <a:t>(ЗАГОТОВКА И СБОР ДИКОРОСОВ, ОХОТА, ЭКОТУРИЗМ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5"/>
          <p:cNvSpPr/>
          <p:nvPr/>
        </p:nvSpPr>
        <p:spPr>
          <a:xfrm>
            <a:off x="0" y="1181160"/>
            <a:ext cx="1720800" cy="2253960"/>
          </a:xfrm>
          <a:prstGeom prst="rect">
            <a:avLst/>
          </a:prstGeom>
          <a:solidFill>
            <a:srgbClr val="fdeada"/>
          </a:soli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f6228"/>
                </a:solidFill>
                <a:latin typeface="Calibri"/>
              </a:rPr>
              <a:t>ЗАТР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f6228"/>
                </a:solidFill>
                <a:latin typeface="Calibri"/>
              </a:rPr>
              <a:t>КОРЕННОЕ УЛУЧШЕНИЕ И ВОЗВРАЩЕНИЕ В  С/Х ОБОР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40 – 100 тыс. руб./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Двойная стрелка вверх/вниз 9" descr=""/>
          <p:cNvPicPr/>
          <p:nvPr/>
        </p:nvPicPr>
        <p:blipFill>
          <a:blip r:embed="rId6"/>
          <a:stretch/>
        </p:blipFill>
        <p:spPr>
          <a:xfrm>
            <a:off x="480960" y="3475080"/>
            <a:ext cx="738360" cy="104148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11" descr=""/>
          <p:cNvPicPr/>
          <p:nvPr/>
        </p:nvPicPr>
        <p:blipFill>
          <a:blip r:embed="rId7"/>
          <a:stretch/>
        </p:blipFill>
        <p:spPr>
          <a:xfrm>
            <a:off x="1682640" y="2944800"/>
            <a:ext cx="2853000" cy="56664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40" descr=""/>
          <p:cNvPicPr/>
          <p:nvPr/>
        </p:nvPicPr>
        <p:blipFill>
          <a:blip r:embed="rId8"/>
          <a:stretch/>
        </p:blipFill>
        <p:spPr>
          <a:xfrm>
            <a:off x="6649920" y="2803680"/>
            <a:ext cx="26226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10484e1da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716360" y="1501920"/>
            <a:ext cx="4108680" cy="22874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8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324000" y="1504800"/>
            <a:ext cx="4103640" cy="228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4"/>
          <a:stretch/>
        </p:blipFill>
        <p:spPr>
          <a:xfrm>
            <a:off x="7918560" y="0"/>
            <a:ext cx="1225440" cy="8557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3"/>
          <p:cNvSpPr/>
          <p:nvPr/>
        </p:nvSpPr>
        <p:spPr>
          <a:xfrm>
            <a:off x="1187280" y="0"/>
            <a:ext cx="7313760" cy="936720"/>
          </a:xfrm>
          <a:prstGeom prst="rect">
            <a:avLst/>
          </a:prstGeom>
          <a:noFill/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9646"/>
                </a:solidFill>
                <a:latin typeface="Segoe UI Light"/>
              </a:rPr>
              <a:t>ИСПОЛЬЗОВАНИЕ УДОБРЕНИЙ И УРОЖАЙНОСТЬ: РЕГИОНАЛЬНЫЙ АСП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324000" y="1052640"/>
            <a:ext cx="42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Регионы-лидеры по внесению минеральных удобрений (кг/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4572000" y="1052640"/>
            <a:ext cx="427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Регионы-лидеры по внесению органических удобрений (т/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0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324000" y="4307040"/>
            <a:ext cx="4103640" cy="2290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1"/>
          <p:cNvSpPr/>
          <p:nvPr/>
        </p:nvSpPr>
        <p:spPr>
          <a:xfrm>
            <a:off x="239760" y="3876840"/>
            <a:ext cx="42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Регионы-лидеры по увеличению посевных площадей (% за 10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23" descr=""/>
          <p:cNvPicPr/>
          <p:nvPr/>
        </p:nvPicPr>
        <p:blipFill>
          <a:blip r:embed="rId6">
            <a:alphaModFix amt="50000"/>
          </a:blip>
          <a:stretch/>
        </p:blipFill>
        <p:spPr>
          <a:xfrm>
            <a:off x="4716360" y="4307040"/>
            <a:ext cx="4108680" cy="2296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4"/>
          <p:cNvSpPr/>
          <p:nvPr/>
        </p:nvSpPr>
        <p:spPr>
          <a:xfrm>
            <a:off x="4626000" y="3875040"/>
            <a:ext cx="42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Регионы-лидеры по урожайности зерновых и зернобобовых (ц/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3"/>
          <p:cNvGrpSpPr/>
          <p:nvPr/>
        </p:nvGrpSpPr>
        <p:grpSpPr>
          <a:xfrm>
            <a:off x="0" y="0"/>
            <a:ext cx="1042920" cy="1079640"/>
            <a:chOff x="0" y="0"/>
            <a:chExt cx="1042920" cy="1079640"/>
          </a:xfrm>
        </p:grpSpPr>
        <p:sp>
          <p:nvSpPr>
            <p:cNvPr id="142" name="Прямоугольник 36"/>
            <p:cNvSpPr/>
            <p:nvPr/>
          </p:nvSpPr>
          <p:spPr>
            <a:xfrm>
              <a:off x="0" y="0"/>
              <a:ext cx="1042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2" descr="http://kogolika.com/wp-content/uploads/2012/04/%D0%93%D0%943.jpg"/>
            <p:cNvPicPr/>
            <p:nvPr/>
          </p:nvPicPr>
          <p:blipFill>
            <a:blip r:embed="rId7"/>
            <a:srcRect l="12385" t="13493" r="12601" b="13656"/>
            <a:stretch/>
          </p:blipFill>
          <p:spPr>
            <a:xfrm>
              <a:off x="20520" y="128520"/>
              <a:ext cx="100188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10484e1da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1187280" y="0"/>
            <a:ext cx="7777440" cy="936720"/>
          </a:xfrm>
          <a:prstGeom prst="rect">
            <a:avLst/>
          </a:prstGeom>
          <a:noFill/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46c0a"/>
                </a:solidFill>
                <a:latin typeface="Segoe UI Light"/>
              </a:rPr>
              <a:t>ИНТЕНСИФИКАЦИЯ ВЕДЕНИЯ СЕЛЬСКОГО ХОЗЯЙСТВА: ОПЫТ БЕЛГОРОД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24000" y="1268280"/>
            <a:ext cx="4176720" cy="26704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3"/>
          <p:cNvSpPr/>
          <p:nvPr/>
        </p:nvSpPr>
        <p:spPr>
          <a:xfrm>
            <a:off x="555480" y="1328760"/>
            <a:ext cx="216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egoe UI Light"/>
              </a:rPr>
              <a:t>Урожайность (ц/г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4764240" y="4076640"/>
            <a:ext cx="4138560" cy="2667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5148360" y="407664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egoe UI Light"/>
              </a:rPr>
              <a:t>Посевы зерновых и зернобобовых (тыс. г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4764240" y="1268280"/>
            <a:ext cx="4138560" cy="26704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5"/>
          <p:cNvSpPr/>
          <p:nvPr/>
        </p:nvSpPr>
        <p:spPr>
          <a:xfrm>
            <a:off x="324000" y="4076640"/>
            <a:ext cx="4176720" cy="266724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egoe U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8 место среди регионов по валовому сбору зерна в 2014 году (3 524,8 тыс. т. или 3% от валового сбора по РФ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egoe U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Ведомственная программа «Семейные фермы Белогорья на период с 2013-2015 годы» - образец эффективности развития малых форм хозяйствования на се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egoe U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Рентабельность сельскохозяйственных предприятий 23,4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egoe U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egoe UI Light"/>
              </a:rPr>
              <a:t>Область обеспечивает потребность в сахаре 11,6% населени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0" y="0"/>
            <a:ext cx="1042920" cy="1079640"/>
            <a:chOff x="0" y="0"/>
            <a:chExt cx="1042920" cy="1079640"/>
          </a:xfrm>
        </p:grpSpPr>
        <p:sp>
          <p:nvSpPr>
            <p:cNvPr id="153" name="Прямоугольник 36"/>
            <p:cNvSpPr/>
            <p:nvPr/>
          </p:nvSpPr>
          <p:spPr>
            <a:xfrm>
              <a:off x="0" y="0"/>
              <a:ext cx="1042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" descr="http://kogolika.com/wp-content/uploads/2012/04/%D0%93%D0%943.jpg"/>
            <p:cNvPicPr/>
            <p:nvPr/>
          </p:nvPicPr>
          <p:blipFill>
            <a:blip r:embed="rId5"/>
            <a:srcRect l="12385" t="13493" r="12601" b="13656"/>
            <a:stretch/>
          </p:blipFill>
          <p:spPr>
            <a:xfrm>
              <a:off x="20520" y="128520"/>
              <a:ext cx="100188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1" descr="10484e1da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7754760" y="17640"/>
            <a:ext cx="1389240" cy="9205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1116000" y="0"/>
            <a:ext cx="7313760" cy="936720"/>
          </a:xfrm>
          <a:prstGeom prst="rect">
            <a:avLst/>
          </a:prstGeom>
          <a:noFill/>
          <a:ln w="25560">
            <a:solidFill>
              <a:srgbClr val="d7e4b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48a54"/>
                </a:solidFill>
                <a:latin typeface="Segoe UI Light"/>
              </a:rPr>
              <a:t>ПОКАЗАТЕЛИ МЕЛИОРАЦИИ И ТЕХНИЧЕСКОЙ ВООРУЖ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3156120" y="3090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egoe UI Light"/>
              </a:rPr>
              <a:t>Доля мелиорированной пашни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0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50920" y="1125360"/>
            <a:ext cx="8663040" cy="14734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32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250920" y="2708280"/>
            <a:ext cx="8663040" cy="19303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0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7043760" y="4997520"/>
            <a:ext cx="1881000" cy="1712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2" descr=""/>
          <p:cNvPicPr/>
          <p:nvPr/>
        </p:nvPicPr>
        <p:blipFill>
          <a:blip r:embed="rId6">
            <a:alphaModFix amt="50000"/>
          </a:blip>
          <a:stretch/>
        </p:blipFill>
        <p:spPr>
          <a:xfrm>
            <a:off x="4768920" y="4997520"/>
            <a:ext cx="1882800" cy="1712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5" descr="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2496960" y="4997520"/>
            <a:ext cx="1879920" cy="1711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7" descr=""/>
          <p:cNvPicPr/>
          <p:nvPr/>
        </p:nvPicPr>
        <p:blipFill>
          <a:blip r:embed="rId8">
            <a:alphaModFix amt="50000"/>
          </a:blip>
          <a:stretch/>
        </p:blipFill>
        <p:spPr>
          <a:xfrm>
            <a:off x="262080" y="4997520"/>
            <a:ext cx="1873080" cy="170496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2"/>
          <p:cNvGrpSpPr/>
          <p:nvPr/>
        </p:nvGrpSpPr>
        <p:grpSpPr>
          <a:xfrm>
            <a:off x="0" y="0"/>
            <a:ext cx="1042920" cy="1079640"/>
            <a:chOff x="0" y="0"/>
            <a:chExt cx="1042920" cy="1079640"/>
          </a:xfrm>
        </p:grpSpPr>
        <p:sp>
          <p:nvSpPr>
            <p:cNvPr id="166" name="Прямоугольник 36"/>
            <p:cNvSpPr/>
            <p:nvPr/>
          </p:nvSpPr>
          <p:spPr>
            <a:xfrm>
              <a:off x="0" y="0"/>
              <a:ext cx="1042920" cy="1079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2" descr="http://kogolika.com/wp-content/uploads/2012/04/%D0%93%D0%943.jpg"/>
            <p:cNvPicPr/>
            <p:nvPr/>
          </p:nvPicPr>
          <p:blipFill>
            <a:blip r:embed="rId9"/>
            <a:srcRect l="12385" t="13493" r="12601" b="13656"/>
            <a:stretch/>
          </p:blipFill>
          <p:spPr>
            <a:xfrm>
              <a:off x="20520" y="128520"/>
              <a:ext cx="100188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10:20:24Z</dcterms:created>
  <dc:creator>ФИШЕР Василий Вадимович</dc:creator>
  <dc:description/>
  <dc:language>en-US</dc:language>
  <cp:lastModifiedBy>user1</cp:lastModifiedBy>
  <dcterms:modified xsi:type="dcterms:W3CDTF">2016-11-29T11:16:31Z</dcterms:modified>
  <cp:revision>84</cp:revision>
  <dc:subject/>
  <dc:title>Презентация PowerPoint</dc:title>
</cp:coreProperties>
</file>