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5155-509E-463A-A46C-7373B8F984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и Г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Г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рно и экспорт. Из е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оддержки вс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доро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всего 2008 –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П. + слайд по экспор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- докт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о. Показать остальные (фап, шко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 управл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ГИ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едение информации. Конференции, справочники, горячая ли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забыть про ветерин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а по ссудной задолженности. Есть? Есть структу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ы. Ключевые результаты. Добавить прирост маточного погол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еводство. Поддержка. Зерновые. Рекорды – сноска что в 2010 из-за засухи было падение. Регионы: по рису, по рапсу Липецк, лучшие области – наибольший приро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со. Поддержка. Показатели за 10 месяцев, вверху прогноз. Регионы. Крупнейшие прое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ко. Поддержка. Показатели. Регионы. Крупнейшие прое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о. До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ы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о – что нужно чтобы стать участником. Комплексная - карта. 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рмеры. Поддержка начинающих – на новых слайде, с критериями отбора. Динамика семейных молочных по годам – отдельный слайд, с регио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. Крупно тезис – мелко пояс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еж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иорация: Региональные + НИОКР, результ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рынка, Консультирование, Мелиорация, Логистика, Дороги, Компактная застрой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95FC-A9E7-480B-A45B-27D2A8F4B5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5079960" y="8408880"/>
            <a:ext cx="2025720" cy="1519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D1A5-182E-490B-BE2D-C2DFC8B36C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5079960" y="8408880"/>
            <a:ext cx="2025720" cy="1519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A233-87B9-4637-9AEB-5CC7FE3552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5079960" y="8408880"/>
            <a:ext cx="2025720" cy="1519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AE6C-CDF7-41D2-B511-6A85AF8A01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5079960" y="8408880"/>
            <a:ext cx="2025720" cy="1519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CF6F-61C3-4FB7-AF53-450DFAE16D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5079960" y="8408880"/>
            <a:ext cx="2025720" cy="1519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A033-D7D2-4698-AA87-3CBAFF4B91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BEAC-4319-47D6-8629-B6FDE28E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A530-924D-42A3-A0E1-B8DB93ED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00D4-6400-42EA-8F20-86D2214F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F29E-B4DD-435B-A493-1CFAD33C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4649-C4B5-44E8-A8FF-CFEB98CC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2CF4-01BD-4930-9F0C-863B68F0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3532-43C7-472D-9969-B53722D3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93F1-749E-4FA2-8A41-21616805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F394-AC85-4610-B5BC-738C18E3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28B0-BCEE-44EA-8D00-2CE0A0F8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AAC3-F597-4F6D-AE2C-16B10B04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731-8C78-4E44-868E-590B2A65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7479-1556-4355-BE24-806004EC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CDB4-1B20-4445-8E50-20A00A93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4EC4-F42F-4ADB-BE5E-172B8722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A3AC-A239-4C6C-B956-C7ACFCD9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CBC5-33DC-401F-A999-FAF96069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5F098-584B-40BE-9D4B-1F9E7E8A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D16BB-8170-40A7-BE80-E4310AF7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8703F-444C-4E7D-86F9-BF0C673C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C4C85-45E6-4818-8EA0-8029EE76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F6B88-A25D-408F-91F4-3C5E0EA4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9F6-5DEC-41AD-828D-137695DE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B2EA1-9D9A-4288-B567-451B82AA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B0C64-E572-44E0-915A-2CF1017D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DCA93-0357-4C2F-9050-FBA33F6A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A3FCC-4EA9-42F2-8A35-4489600C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89270-4AFA-47DC-996A-4360FABB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146E1-07F4-4EAD-8201-6063AA6C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C7684-A77A-4545-9223-0452052D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77588-47F2-4272-9351-C2795456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A4445-8ECC-4332-8318-FBA9DD36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A079A-80E8-404A-A33F-4BAE6E64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A4EF-505E-4029-9462-C9D2F16A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21CFE-EAED-4E13-AD64-62C69A9E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F684A-2076-4DAF-A430-125CCCDF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AAE37-4526-4ABC-B782-EF873F79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EB85F-E6D0-4E4D-9C46-CE115516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F7FCB-0F89-48A4-82EA-04D5913A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5543D-6C62-4370-9F32-95A6AC89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04C69-55FE-466F-8AB8-A21820A4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47586-A513-441F-A480-F105F332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8D8AD-749F-4116-85E7-801F03AC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404D8-A0FC-4863-84CC-28064481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B69-B9C8-41B1-8C00-FCA8C503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8201C-772B-4249-8724-13DCD83B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FE3C8-5775-4DDB-AB8C-67701E8E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559A0-5FD5-4D9D-AD50-A493F0C4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96C8B-F0D1-4556-A5A0-3A525C6A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657A2-21E5-46C7-B67B-39E547EC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A8FF5-3D36-400B-870E-566687B1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FED07-1853-47FD-8BF0-008E8C41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49787-9B32-4C34-8118-CA2A3688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70386-F69F-457E-8528-48603C78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73206-27FB-4DFA-8413-07CABC58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D14-5EB6-445F-90F5-05B2967D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CE784-4E1F-4A33-AFBD-07010016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F96D8-2096-43A6-A7F0-F1B6DC00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77837-537D-476D-916D-31897F5A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E3F93-3F90-4B0B-8D5B-9222FA84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1CC73-889C-4AD3-BA4D-4A76B806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77001-3BE4-4C2D-94DB-28C8E458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FB964-D0C1-44E7-8985-FA39CA7D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CFBCF-64E9-4013-9B25-BC7FC92E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EEEB7-6113-4272-8E8F-5C616FC6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B38ED-FBAE-4D8C-97E2-0B530F3C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780C-996F-497D-AE4C-782EDFC1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813CE-A3AC-415E-8ACD-92A9F8B6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62351-0BC1-4FB7-9821-CDB14E1B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30CF6-48FB-4A39-9A76-8FA9DC0D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6CF7E-B063-4AE5-BAAF-04829BE7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41E8B-AA3D-4827-8405-86D43CEA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8B81E-4D7C-4CBC-ABA3-5A3B1EBB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33B41-F8EF-4390-AC13-B59B8621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16E9D-EF5C-4F6E-B8BF-70AD5FF1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1145A-C228-4E65-A1CA-B8D59B6A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684C3-77BC-4EF5-A4D3-DADF2D3E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CDD1-2AD9-4EDD-82B0-7CB60009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4E1FA-9B42-4224-B3ED-9F6EDD0C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13543-4BE1-4270-B7C3-77558197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36B7C-8E02-4EFA-BB69-B76F823C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476B2-DB7A-4547-8D9D-7D98AE4D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C3D54-491A-4C7F-A198-CB3C8989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AB5E-F356-4807-827E-F6D6D204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C44F-3B64-49CE-9C16-EBBE2D3D4D9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A3A3-F009-4693-975F-51784ED5EC4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CECD-1F3B-4A5F-9A82-401CD1840D9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F836-F738-4C75-8021-4C4E5FDF195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6377-E29C-4BBD-81E7-72C1B506057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65AF-5247-4185-B43D-3A3FEC8E832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2952-8B2A-42E8-A9EC-2B0B2CA482D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3346560" y="907920"/>
            <a:ext cx="2388960" cy="254160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3"/>
          <p:cNvSpPr/>
          <p:nvPr/>
        </p:nvSpPr>
        <p:spPr>
          <a:xfrm>
            <a:off x="250920" y="3446640"/>
            <a:ext cx="8569080" cy="2574720"/>
          </a:xfrm>
          <a:prstGeom prst="roundRect">
            <a:avLst>
              <a:gd name="adj" fmla="val 16667"/>
            </a:avLst>
          </a:prstGeom>
          <a:solidFill>
            <a:srgbClr val="2862aa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менение законодательства в области оборота земель сельскохозяйственного назна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468360" y="333360"/>
            <a:ext cx="8217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55427"/>
                </a:solidFill>
                <a:latin typeface="Arial"/>
                <a:ea typeface="Arial"/>
              </a:rPr>
              <a:t>Министерство сельского хозяйства Российской Федераци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Прямая соединительная линия 4"/>
          <p:cNvSpPr/>
          <p:nvPr/>
        </p:nvSpPr>
        <p:spPr>
          <a:xfrm>
            <a:off x="214200" y="6286680"/>
            <a:ext cx="8715600" cy="0"/>
          </a:xfrm>
          <a:prstGeom prst="line">
            <a:avLst/>
          </a:prstGeom>
          <a:ln w="9360">
            <a:solidFill>
              <a:srgbClr val="ea3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2"/>
          <a:stretch/>
        </p:blipFill>
        <p:spPr>
          <a:xfrm>
            <a:off x="128520" y="6345360"/>
            <a:ext cx="432000" cy="457200"/>
          </a:xfrm>
          <a:prstGeom prst="rect">
            <a:avLst/>
          </a:prstGeom>
          <a:ln w="0">
            <a:noFill/>
          </a:ln>
        </p:spPr>
      </p:pic>
      <p:sp>
        <p:nvSpPr>
          <p:cNvPr id="347" name="Oval 8"/>
          <p:cNvSpPr/>
          <p:nvPr/>
        </p:nvSpPr>
        <p:spPr>
          <a:xfrm>
            <a:off x="8572680" y="6381720"/>
            <a:ext cx="323640" cy="333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Рисунок 2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838760"/>
          </a:xfrm>
          <a:prstGeom prst="rect">
            <a:avLst/>
          </a:prstGeom>
          <a:ln w="0">
            <a:noFill/>
          </a:ln>
        </p:spPr>
      </p:pic>
      <p:sp>
        <p:nvSpPr>
          <p:cNvPr id="349" name="TextBox 1"/>
          <p:cNvSpPr/>
          <p:nvPr/>
        </p:nvSpPr>
        <p:spPr>
          <a:xfrm>
            <a:off x="345960" y="981000"/>
            <a:ext cx="660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862aa"/>
                </a:solidFill>
                <a:uFillTx/>
                <a:latin typeface="Calibri"/>
              </a:rPr>
              <a:t>Общая площадь земель с/х назначения – 383,7 млн. га, из них сельскохозяйственные угодья – 197,7 млн. г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862aa"/>
                </a:solidFill>
                <a:uFillTx/>
                <a:latin typeface="Calibri"/>
              </a:rPr>
              <a:t>Не используется – 36,8 млн. 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862aa"/>
                </a:solidFill>
                <a:uFillTx/>
                <a:latin typeface="Calibri"/>
              </a:rPr>
              <a:t>Введено в сельскохозяйственный оборот - 8 ,5 млн. 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Диаграмма 16" descr=""/>
          <p:cNvPicPr/>
          <p:nvPr/>
        </p:nvPicPr>
        <p:blipFill>
          <a:blip r:embed="rId2"/>
          <a:stretch/>
        </p:blipFill>
        <p:spPr>
          <a:xfrm>
            <a:off x="2220840" y="1916280"/>
            <a:ext cx="5015160" cy="43434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3"/>
          <p:cNvSpPr/>
          <p:nvPr/>
        </p:nvSpPr>
        <p:spPr>
          <a:xfrm>
            <a:off x="179280" y="142920"/>
            <a:ext cx="8785440" cy="6220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ведения о состоянии и использовании земель сельскохозяйственн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назначения в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214200" y="6286680"/>
            <a:ext cx="8715600" cy="0"/>
          </a:xfrm>
          <a:prstGeom prst="line">
            <a:avLst/>
          </a:prstGeom>
          <a:ln w="9360">
            <a:solidFill>
              <a:srgbClr val="ea3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оугольник 7"/>
          <p:cNvSpPr/>
          <p:nvPr/>
        </p:nvSpPr>
        <p:spPr>
          <a:xfrm>
            <a:off x="442800" y="6410160"/>
            <a:ext cx="83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3800"/>
                </a:solidFill>
                <a:latin typeface="Arial"/>
                <a:ea typeface="Arial"/>
              </a:rPr>
              <a:t>МИНИСТЕРСТВО СЕЛЬСКОГО ХОЗЯЙСТВА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3"/>
          <a:stretch/>
        </p:blipFill>
        <p:spPr>
          <a:xfrm>
            <a:off x="128520" y="6345360"/>
            <a:ext cx="432000" cy="457200"/>
          </a:xfrm>
          <a:prstGeom prst="rect">
            <a:avLst/>
          </a:prstGeom>
          <a:ln w="0">
            <a:noFill/>
          </a:ln>
        </p:spPr>
      </p:pic>
      <p:sp>
        <p:nvSpPr>
          <p:cNvPr id="355" name="Oval 8"/>
          <p:cNvSpPr/>
          <p:nvPr/>
        </p:nvSpPr>
        <p:spPr>
          <a:xfrm>
            <a:off x="8572680" y="6381720"/>
            <a:ext cx="323640" cy="333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6B52-B3D4-4657-8094-FD0B8523CA53}" type="slidenum">
              <a:rPr b="1" lang="ru-RU" sz="1400" spc="-1" strike="noStrike">
                <a:solidFill>
                  <a:srgbClr val="8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AutoShape 3"/>
          <p:cNvSpPr/>
          <p:nvPr/>
        </p:nvSpPr>
        <p:spPr>
          <a:xfrm>
            <a:off x="179280" y="142920"/>
            <a:ext cx="8785440" cy="12700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Нормативное правовое регулирование оборо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земель сельскохозяйственного назна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Прямая соединительная линия 6"/>
          <p:cNvSpPr/>
          <p:nvPr/>
        </p:nvSpPr>
        <p:spPr>
          <a:xfrm>
            <a:off x="214200" y="6286680"/>
            <a:ext cx="8715600" cy="0"/>
          </a:xfrm>
          <a:prstGeom prst="line">
            <a:avLst/>
          </a:prstGeom>
          <a:ln w="9360">
            <a:solidFill>
              <a:srgbClr val="ea3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Прямоугольник 7"/>
          <p:cNvSpPr/>
          <p:nvPr/>
        </p:nvSpPr>
        <p:spPr>
          <a:xfrm>
            <a:off x="442800" y="6410160"/>
            <a:ext cx="83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3800"/>
                </a:solidFill>
                <a:latin typeface="Arial"/>
                <a:ea typeface="Arial"/>
              </a:rPr>
              <a:t>МИНИСТЕРСТВО СЕЛЬСКОГО ХОЗЯЙСТВА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128520" y="6345360"/>
            <a:ext cx="432000" cy="457200"/>
          </a:xfrm>
          <a:prstGeom prst="rect">
            <a:avLst/>
          </a:prstGeom>
          <a:ln w="0">
            <a:noFill/>
          </a:ln>
        </p:spPr>
      </p:pic>
      <p:sp>
        <p:nvSpPr>
          <p:cNvPr id="360" name="Oval 8"/>
          <p:cNvSpPr/>
          <p:nvPr/>
        </p:nvSpPr>
        <p:spPr>
          <a:xfrm>
            <a:off x="8572680" y="6381720"/>
            <a:ext cx="323640" cy="333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3551-848B-427C-85F4-6B469DA81C60}" type="slidenum">
              <a:rPr b="1" lang="ru-RU" sz="1400" spc="-1" strike="noStrike">
                <a:solidFill>
                  <a:srgbClr val="8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Схема 8" descr=""/>
          <p:cNvPicPr/>
          <p:nvPr/>
        </p:nvPicPr>
        <p:blipFill>
          <a:blip r:embed="rId2"/>
          <a:stretch/>
        </p:blipFill>
        <p:spPr>
          <a:xfrm>
            <a:off x="433440" y="1554120"/>
            <a:ext cx="831384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3"/>
          <p:cNvSpPr/>
          <p:nvPr/>
        </p:nvSpPr>
        <p:spPr>
          <a:xfrm>
            <a:off x="179280" y="142920"/>
            <a:ext cx="8785440" cy="12700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зъятие неиспользуемых земель сельскохозяйственного назна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Прямая соединительная линия 6"/>
          <p:cNvSpPr/>
          <p:nvPr/>
        </p:nvSpPr>
        <p:spPr>
          <a:xfrm>
            <a:off x="214200" y="6286680"/>
            <a:ext cx="8715600" cy="0"/>
          </a:xfrm>
          <a:prstGeom prst="line">
            <a:avLst/>
          </a:prstGeom>
          <a:ln w="9360">
            <a:solidFill>
              <a:srgbClr val="ea3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Прямоугольник 7"/>
          <p:cNvSpPr/>
          <p:nvPr/>
        </p:nvSpPr>
        <p:spPr>
          <a:xfrm>
            <a:off x="442800" y="6410160"/>
            <a:ext cx="83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3800"/>
                </a:solidFill>
                <a:latin typeface="Arial"/>
                <a:ea typeface="Arial"/>
              </a:rPr>
              <a:t>МИНИСТЕРСТВО СЕЛЬСКОГО ХОЗЯЙСТВА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128520" y="6345360"/>
            <a:ext cx="432000" cy="457200"/>
          </a:xfrm>
          <a:prstGeom prst="rect">
            <a:avLst/>
          </a:prstGeom>
          <a:ln w="0">
            <a:noFill/>
          </a:ln>
        </p:spPr>
      </p:pic>
      <p:sp>
        <p:nvSpPr>
          <p:cNvPr id="366" name="Oval 8"/>
          <p:cNvSpPr/>
          <p:nvPr/>
        </p:nvSpPr>
        <p:spPr>
          <a:xfrm>
            <a:off x="8572680" y="6381720"/>
            <a:ext cx="323640" cy="333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3FE5-2B0F-4CFC-ACA5-5BCB806D115C}" type="slidenum">
              <a:rPr b="1" lang="ru-RU" sz="1400" spc="-1" strike="noStrike">
                <a:solidFill>
                  <a:srgbClr val="8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Схема 8" descr=""/>
          <p:cNvPicPr/>
          <p:nvPr/>
        </p:nvPicPr>
        <p:blipFill>
          <a:blip r:embed="rId2"/>
          <a:stretch/>
        </p:blipFill>
        <p:spPr>
          <a:xfrm>
            <a:off x="317520" y="1554120"/>
            <a:ext cx="8497800" cy="4591080"/>
          </a:xfrm>
          <a:prstGeom prst="rect">
            <a:avLst/>
          </a:prstGeom>
          <a:ln w="0">
            <a:noFill/>
          </a:ln>
        </p:spPr>
      </p:pic>
      <p:sp>
        <p:nvSpPr>
          <p:cNvPr id="368" name="Прямоугольник 7"/>
          <p:cNvSpPr/>
          <p:nvPr/>
        </p:nvSpPr>
        <p:spPr>
          <a:xfrm>
            <a:off x="5724360" y="3500280"/>
            <a:ext cx="3076920" cy="2284200"/>
          </a:xfrm>
          <a:prstGeom prst="rect">
            <a:avLst/>
          </a:prstGeom>
          <a:solidFill>
            <a:srgbClr val="4584d3"/>
          </a:solidFill>
          <a:ln w="15840">
            <a:solidFill>
              <a:srgbClr val="305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Candara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 кв. 2016 г. Россельхознадзором вынесен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2385 предписаний об устранении правонарушений, связанных с неиспользованием земельных участков (в отношении 2903 земельных участков площадью 122,6 тыс. г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по 130 предписаниям правонарушения устранены (в отношении 139 земельных участков площадью 3,5 тыс. г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3"/>
          <p:cNvSpPr/>
          <p:nvPr/>
        </p:nvSpPr>
        <p:spPr>
          <a:xfrm>
            <a:off x="179280" y="142920"/>
            <a:ext cx="8785440" cy="12700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сновные направления совершенствован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земельного законодательств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регулирующего оборот земель сельскохозяйственного назна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Прямая соединительная линия 6"/>
          <p:cNvSpPr/>
          <p:nvPr/>
        </p:nvSpPr>
        <p:spPr>
          <a:xfrm>
            <a:off x="214200" y="6286680"/>
            <a:ext cx="8715600" cy="0"/>
          </a:xfrm>
          <a:prstGeom prst="line">
            <a:avLst/>
          </a:prstGeom>
          <a:ln w="9360">
            <a:solidFill>
              <a:srgbClr val="ea3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Прямоугольник 7"/>
          <p:cNvSpPr/>
          <p:nvPr/>
        </p:nvSpPr>
        <p:spPr>
          <a:xfrm>
            <a:off x="442800" y="6410160"/>
            <a:ext cx="83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3800"/>
                </a:solidFill>
                <a:latin typeface="Arial"/>
                <a:ea typeface="Arial"/>
              </a:rPr>
              <a:t>МИНИСТЕРСТВО СЕЛЬСКОГО ХОЗЯЙСТВА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28520" y="6345360"/>
            <a:ext cx="432000" cy="457200"/>
          </a:xfrm>
          <a:prstGeom prst="rect">
            <a:avLst/>
          </a:prstGeom>
          <a:ln w="0">
            <a:noFill/>
          </a:ln>
        </p:spPr>
      </p:pic>
      <p:sp>
        <p:nvSpPr>
          <p:cNvPr id="373" name="Oval 8"/>
          <p:cNvSpPr/>
          <p:nvPr/>
        </p:nvSpPr>
        <p:spPr>
          <a:xfrm>
            <a:off x="8572680" y="6381720"/>
            <a:ext cx="323640" cy="333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8D97-B2EB-43DA-A151-B596C139B403}" type="slidenum">
              <a:rPr b="1" lang="ru-RU" sz="1400" spc="-1" strike="noStrike">
                <a:solidFill>
                  <a:srgbClr val="8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Схема 8" descr=""/>
          <p:cNvPicPr/>
          <p:nvPr/>
        </p:nvPicPr>
        <p:blipFill>
          <a:blip r:embed="rId2"/>
          <a:stretch/>
        </p:blipFill>
        <p:spPr>
          <a:xfrm>
            <a:off x="317520" y="1554120"/>
            <a:ext cx="842976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AutoShape 3"/>
          <p:cNvSpPr/>
          <p:nvPr/>
        </p:nvSpPr>
        <p:spPr>
          <a:xfrm>
            <a:off x="179280" y="142920"/>
            <a:ext cx="8785440" cy="12700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сновные направления совершенствован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земельного законодательств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регулирующего оборот земель сельскохозяйственного назна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Прямая соединительная линия 6"/>
          <p:cNvSpPr/>
          <p:nvPr/>
        </p:nvSpPr>
        <p:spPr>
          <a:xfrm>
            <a:off x="214200" y="6286680"/>
            <a:ext cx="8715600" cy="0"/>
          </a:xfrm>
          <a:prstGeom prst="line">
            <a:avLst/>
          </a:prstGeom>
          <a:ln w="9360">
            <a:solidFill>
              <a:srgbClr val="ea3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Прямоугольник 7"/>
          <p:cNvSpPr/>
          <p:nvPr/>
        </p:nvSpPr>
        <p:spPr>
          <a:xfrm>
            <a:off x="442800" y="6410160"/>
            <a:ext cx="83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3800"/>
                </a:solidFill>
                <a:latin typeface="Arial"/>
                <a:ea typeface="Arial"/>
              </a:rPr>
              <a:t>МИНИСТЕРСТВО СЕЛЬСКОГО ХОЗЯЙСТВА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128520" y="6345360"/>
            <a:ext cx="432000" cy="457200"/>
          </a:xfrm>
          <a:prstGeom prst="rect">
            <a:avLst/>
          </a:prstGeom>
          <a:ln w="0">
            <a:noFill/>
          </a:ln>
        </p:spPr>
      </p:pic>
      <p:sp>
        <p:nvSpPr>
          <p:cNvPr id="379" name="Oval 8"/>
          <p:cNvSpPr/>
          <p:nvPr/>
        </p:nvSpPr>
        <p:spPr>
          <a:xfrm>
            <a:off x="8572680" y="6381720"/>
            <a:ext cx="323640" cy="333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19A2-2C52-46DA-8FD1-560C5909CA5A}" type="slidenum">
              <a:rPr b="1" lang="ru-RU" sz="1400" spc="-1" strike="noStrike">
                <a:solidFill>
                  <a:srgbClr val="8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Схема 8" descr=""/>
          <p:cNvPicPr/>
          <p:nvPr/>
        </p:nvPicPr>
        <p:blipFill>
          <a:blip r:embed="rId2"/>
          <a:stretch/>
        </p:blipFill>
        <p:spPr>
          <a:xfrm>
            <a:off x="317520" y="1554120"/>
            <a:ext cx="842976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5:10:25Z</dcterms:created>
  <dc:creator>Марченко Алексей Николаевич</dc:creator>
  <dc:description/>
  <dc:language>en-US</dc:language>
  <cp:lastModifiedBy>user1</cp:lastModifiedBy>
  <cp:lastPrinted>2016-11-28T11:12:55Z</cp:lastPrinted>
  <dcterms:modified xsi:type="dcterms:W3CDTF">2016-11-29T09:20:14Z</dcterms:modified>
  <cp:revision>326</cp:revision>
  <dc:subject/>
  <dc:title>Презентация PowerPoint</dc:title>
</cp:coreProperties>
</file>